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45A9-4878-4B5D-8991-F2CC3F148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0880-7830-4FAA-A494-2022FBFB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D6C5-51D2-4DBA-BBA4-6B9AC121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0B1B-AB65-402D-A827-3083B20D5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0B3A-F0CA-4269-8C58-B4D010A10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ADAE-7C09-4C93-B46F-99B1312A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1FB5-A336-4716-8CF3-BC6EECDA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5AD6-DA39-4430-9B9F-947D4627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A1F6-A1ED-4844-AA10-FB08D6BF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443A-B3FB-4C51-844B-28CFF7A1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6889-912D-4AF1-84BA-780D6694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3093-D704-4AC5-AB98-4B9E5BAE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E765-E3AA-442F-A6FE-182201EB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5849-E6A9-40AF-BEC6-BD4DC96A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FA76-66D2-40D4-BDF7-D9A37FDF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4098-750B-4171-9825-0646A5750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E327-D09E-4B85-8388-48661E07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69F6-26A1-4818-90B8-71BC67E3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7368-F6AF-4945-B1EF-82870922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347A-F287-451F-A167-D972C516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171F-6510-42B4-A6D2-9BAE5F9E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9EAE-956C-4C46-949E-8D3077B3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D817-C0EF-4A30-85C3-9871AF4D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186C-806B-41D7-9CD5-23ED2A1F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8B89-7336-4975-8418-F246909178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561B-FB56-4AA5-B062-FCBF835746A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SINGLE ROW FUNCTION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HARACTER MANI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40640" y="4952880"/>
            <a:ext cx="34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. Carmen Popes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acle Academy Lead Adjun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RIM Exampl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2560" y="1828800"/>
            <a:ext cx="88390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TRIM(trailing 'ab' from 'ababbab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b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'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gt; ababbab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RIM Exampl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2560" y="1828800"/>
            <a:ext cx="88390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TRIM('ab' from '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b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b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b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'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gt; bab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LOWER, UPPER, INITCAP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PER(st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(st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CAP(st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LOWER, UPPER, INITCAP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UPPER('aBcD'), LOWER('aBcD'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CAP('aBcD') FROM 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PPER('aBcD'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OWER('aBcD'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CAP('aBcD') FROM 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BC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UPPER('aBcD')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OWER('aBcD'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CAP('aBcD') FROM 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gt; ABC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bc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UPPER('aBcD'), LOWER('aBcD'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ITCAP('aBcD'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gt; ABC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b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LENGTH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LENGTH('abc') FROM 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gt;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UBST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86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R(string,start[,count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f no count is specified, the function return the substring starting at position start and going to the end of the str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SUBSTR('abc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hi',5,2) FROM 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SUBSTR('abc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fgh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',5) FROM 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fg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INST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83944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STR(string,substring[,start[,n]]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 the n-th occurrence of the substring in the string, starting with the start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start position is not mention the function will look for the substring starting at position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 is not mention the function will look for the first occurrence of the substring in th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INSTR exampl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2022480"/>
            <a:ext cx="86868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INSTR('xyzabcxabcxabcxyz','abc') from 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INSTR('xyzab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xabcxabcxy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','abc',6) from 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INSTR('xyz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yz','abc',1,2) from 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INSTR('xyz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cx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xy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','abc',5,2) from 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UBSTR, INSTR Togeth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Autho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UBSTR(Author, INSTR(Author,',')+2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| ' ' ||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SUBSTR(Author,1, INSTR(Author,',')-1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Magaz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Eminesc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iha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iha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Eminesc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Creang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Crean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Cosbu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eor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eor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Cosb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oncatena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1 || st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NCAT(str1,str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ncatenate more that 2 string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1 || str2 || str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CAT(str1,CONCAT(str2,str3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RPAD, LPAD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PAD(string,length,['set']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PAD(string,length,['set']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'set' does not appear the string will be padded with spa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RPAD, LPAD Exampl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LECT RPAD('ab',10,'&lt;&gt;') FROM 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=&gt; ab&lt;&gt;&lt;&gt;&lt;&gt;&l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LECT LPAD('xyz',15,'*') FROM 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************xy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RPAD, LPAD Exampl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ELECT LPAD(RPAD('abc',8,'='),13,'=') FROM 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=&gt; =====abc====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ELECT LPAD(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RPAD('abc',8,'=')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,13,'=') FROM 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=&gt; =====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bc====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ELECT </a:t>
            </a:r>
            <a:r>
              <a:rPr b="1" lang="en-US" sz="3200" spc="-1" strike="noStrike">
                <a:solidFill>
                  <a:srgbClr val="0000cc"/>
                </a:solidFill>
                <a:latin typeface="Courier New"/>
              </a:rPr>
              <a:t>LPAD(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RPAD('abc',8,'=')</a:t>
            </a:r>
            <a:r>
              <a:rPr b="1" lang="en-US" sz="3200" spc="-1" strike="noStrike">
                <a:solidFill>
                  <a:srgbClr val="0000cc"/>
                </a:solidFill>
                <a:latin typeface="Courier New"/>
              </a:rPr>
              <a:t>,13,'=')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FROM 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=&gt; </a:t>
            </a:r>
            <a:r>
              <a:rPr b="1" lang="en-US" sz="3200" spc="-1" strike="noStrike">
                <a:solidFill>
                  <a:srgbClr val="0000cc"/>
                </a:solidFill>
                <a:latin typeface="Courier New"/>
              </a:rPr>
              <a:t>=====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bc====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LTRIM, RTRI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m off unwanted characters from the left (LTRIM), right (RTRIM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TRIM(string,[’set’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TRIM(string,[’set’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is the collection of characters you want to trim off. If no set is specified, the function trim off sp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LTRIM, RTRIM Exampl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LECT LTRIM('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**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==**abc**==**','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'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ROM 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==**abc**==*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LECT RTRIM('**==**abc**==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**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','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'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ROM 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**==**abc**=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RI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im ( [leading|trailing|both  ['set'] FROM] s1)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m off set from the beginning, the end or both of the string s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option is Implic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 set is specified, the function trim off spac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RIM Exampl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560" y="1828800"/>
            <a:ext cx="88390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TRIM(leading 'ab' from '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b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bbabab'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gt; bababab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7T18:30:48Z</dcterms:created>
  <dc:creator>carmen</dc:creator>
  <dc:description>Am adaugat un ultim slide cu intrebari  </dc:description>
  <dc:language>en-US</dc:language>
  <cp:lastModifiedBy>kome</cp:lastModifiedBy>
  <dcterms:modified xsi:type="dcterms:W3CDTF">2007-09-18T17:42:02Z</dcterms:modified>
  <cp:revision>34</cp:revision>
  <dc:subject/>
  <dc:title>Char Function</dc:title>
</cp:coreProperties>
</file>